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5A14-FABB-4176-B25C-EFE85838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404-28F6-4450-A038-E824021C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32B-C36E-48D7-9A28-84EAFDDD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280-39CC-4C66-B7DC-D46ACC4C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1CE-213C-48EB-943B-29ADC7C4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B775-A23A-499C-AD3E-E22ED102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126-1D6A-484F-B615-8410E6EE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734-5EDF-42AE-B13B-5533604D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9E3-BA92-42D1-AE6C-A2C6D89E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960-64F8-4C9F-9839-A645873F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960-BF94-4D5F-8355-D4952780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D03-42D5-4169-B956-2A08AB67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739F-F72E-487E-9B4A-ED4581A06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16360" y="3213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5080" y="1916280"/>
            <a:ext cx="3311640" cy="30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530208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95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284720" y="2852640"/>
            <a:ext cx="759960" cy="792000"/>
            <a:chOff x="4284720" y="2852640"/>
            <a:chExt cx="759960" cy="792000"/>
          </a:xfrm>
        </p:grpSpPr>
        <p:sp>
          <p:nvSpPr>
            <p:cNvPr id="150" name=""/>
            <p:cNvSpPr/>
            <p:nvPr/>
          </p:nvSpPr>
          <p:spPr>
            <a:xfrm>
              <a:off x="4325760" y="285264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13040" y="321300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84720" y="321300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13040" y="285264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708360" y="3213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565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24360" y="3573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3280" y="249228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32360" y="28526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3573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3213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227664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22766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03640" y="2492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249228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364500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51280" y="22766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14172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73440" y="1700280"/>
            <a:ext cx="3311280" cy="30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515772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95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84720" y="2852640"/>
            <a:ext cx="759960" cy="792000"/>
            <a:chOff x="4284720" y="2852640"/>
            <a:chExt cx="759960" cy="792000"/>
          </a:xfrm>
        </p:grpSpPr>
        <p:sp>
          <p:nvSpPr>
            <p:cNvPr id="177" name=""/>
            <p:cNvSpPr/>
            <p:nvPr/>
          </p:nvSpPr>
          <p:spPr>
            <a:xfrm>
              <a:off x="4325760" y="285264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13040" y="321300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84720" y="321300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13040" y="285264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708360" y="3213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2565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3573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3528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249228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2360" y="28526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3573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3213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0364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11640" y="227664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00720" y="22766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03640" y="2492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2360" y="249228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5280" y="364500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22766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92360" y="314172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0360" y="1628640"/>
            <a:ext cx="3311640" cy="309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21300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59280" y="2205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19640" y="350028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278136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515772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770200" y="2637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0560" y="292572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59280" y="191772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70200" y="2205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00320" y="2205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7600" y="2565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5928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87600" y="2205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2920" y="2565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98920" y="19177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98920" y="292572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09840" y="2205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17840" y="184464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06920" y="220500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90920" y="292572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692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67280" y="2421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6200" y="16286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4920" y="1628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78200" y="1844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66920" y="184464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09840" y="299736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25840" y="162864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6920" y="24940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71640" y="0"/>
            <a:ext cx="5976720" cy="580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2565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3840" y="155736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9384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0920" y="213372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88000" y="553716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227808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270972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16360" y="1341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27640" y="242100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97400" y="16286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4680" y="1989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56000" y="1989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4680" y="1628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03640" y="162864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27008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0" y="2565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59280" y="12700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28526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127008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270972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4720" y="127008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76720" y="270972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56000" y="1341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67280" y="213372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5640" y="155736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5640" y="127008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306864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278136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8000" y="2349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7640" y="278136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7280" y="18446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1989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35280" y="12700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76720" y="38624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87640" y="414972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17760" y="414972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05040" y="414972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16360" y="386244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68360" y="1484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378936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41497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3640" y="3573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92360" y="3573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95640" y="378936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84360" y="378936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43280" y="3573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40000" y="364500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350208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79640" y="314172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328608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422100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92720" y="299736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33800" y="328608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1484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03640" y="400536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3440" y="393372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02120" y="3573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21440" y="3573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94160" y="32148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51640" y="30686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321480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89440" y="321480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64000" y="22780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02160" y="321480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08720" y="33577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73440" y="328608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84720" y="40784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13080" y="35020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3080" y="321480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95640" y="33577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92720" y="162864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92720" y="19177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4720" y="378936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59280" y="3860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52720" y="321480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71640" y="1125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27280" y="4076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79640" y="3573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59280" y="10526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08360" y="981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80000" y="364500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92720" y="393372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4720" y="436572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8000" y="4437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48360" y="1341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0" y="19162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651640" y="2349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40360" y="981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48000" y="981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95640" y="450864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981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08360" y="4437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32360" y="436572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14840" y="292572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5080" y="328608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5080" y="1844640"/>
            <a:ext cx="3311640" cy="30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523080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41760" y="292572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0720" y="328608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29040" y="299736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5080" y="1844640"/>
            <a:ext cx="3311640" cy="30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523080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4284720" y="2852640"/>
            <a:ext cx="759960" cy="792000"/>
            <a:chOff x="4284720" y="2852640"/>
            <a:chExt cx="759960" cy="792000"/>
          </a:xfrm>
        </p:grpSpPr>
        <p:sp>
          <p:nvSpPr>
            <p:cNvPr id="54" name=""/>
            <p:cNvSpPr/>
            <p:nvPr/>
          </p:nvSpPr>
          <p:spPr>
            <a:xfrm>
              <a:off x="4325760" y="285264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13040" y="321300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84720" y="321300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13040" y="285264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989440" y="1771560"/>
            <a:ext cx="3311280" cy="309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515772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95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9564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284720" y="2852640"/>
            <a:ext cx="759960" cy="792000"/>
            <a:chOff x="4284720" y="2852640"/>
            <a:chExt cx="759960" cy="792000"/>
          </a:xfrm>
        </p:grpSpPr>
        <p:sp>
          <p:nvSpPr>
            <p:cNvPr id="65" name=""/>
            <p:cNvSpPr/>
            <p:nvPr/>
          </p:nvSpPr>
          <p:spPr>
            <a:xfrm>
              <a:off x="4325760" y="285264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13040" y="321300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84720" y="321300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13040" y="285264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916360" y="1844640"/>
            <a:ext cx="3311280" cy="30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515772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95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472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84720" y="2852640"/>
            <a:ext cx="759960" cy="792000"/>
            <a:chOff x="4284720" y="2852640"/>
            <a:chExt cx="759960" cy="792000"/>
          </a:xfrm>
        </p:grpSpPr>
        <p:sp>
          <p:nvSpPr>
            <p:cNvPr id="76" name=""/>
            <p:cNvSpPr/>
            <p:nvPr/>
          </p:nvSpPr>
          <p:spPr>
            <a:xfrm>
              <a:off x="4325760" y="285264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13040" y="321300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84720" y="321300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13040" y="285264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635280" y="3213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2565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3573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528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1627200"/>
            <a:ext cx="3311640" cy="30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515772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95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472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284720" y="2852640"/>
            <a:ext cx="759960" cy="792000"/>
            <a:chOff x="4284720" y="2852640"/>
            <a:chExt cx="759960" cy="792000"/>
          </a:xfrm>
        </p:grpSpPr>
        <p:sp>
          <p:nvSpPr>
            <p:cNvPr id="91" name=""/>
            <p:cNvSpPr/>
            <p:nvPr/>
          </p:nvSpPr>
          <p:spPr>
            <a:xfrm>
              <a:off x="4325760" y="285264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3040" y="321300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84720" y="321300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13040" y="285264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643280" y="2565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2565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1280" y="3573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3440" y="1700280"/>
            <a:ext cx="3311280" cy="30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15772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3500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3213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95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284720" y="2852640"/>
            <a:ext cx="759960" cy="792000"/>
            <a:chOff x="4284720" y="2852640"/>
            <a:chExt cx="759960" cy="792000"/>
          </a:xfrm>
        </p:grpSpPr>
        <p:sp>
          <p:nvSpPr>
            <p:cNvPr id="108" name=""/>
            <p:cNvSpPr/>
            <p:nvPr/>
          </p:nvSpPr>
          <p:spPr>
            <a:xfrm>
              <a:off x="4325760" y="285264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13040" y="321300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84720" y="321300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13040" y="285264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708360" y="3213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2565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24360" y="3573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249228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59280" y="278136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573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3213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4720" y="1771560"/>
            <a:ext cx="3311640" cy="309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515772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995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284720" y="2852640"/>
            <a:ext cx="759960" cy="792000"/>
            <a:chOff x="4284720" y="2852640"/>
            <a:chExt cx="759960" cy="792000"/>
          </a:xfrm>
        </p:grpSpPr>
        <p:sp>
          <p:nvSpPr>
            <p:cNvPr id="127" name=""/>
            <p:cNvSpPr/>
            <p:nvPr/>
          </p:nvSpPr>
          <p:spPr>
            <a:xfrm>
              <a:off x="4325760" y="285264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13040" y="321300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84720" y="321300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13040" y="285264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708360" y="3213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2565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24360" y="3573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249228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28526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3573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3213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227664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00720" y="22766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2492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1628640"/>
            <a:ext cx="3311280" cy="309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515772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22:19:25Z</dcterms:created>
  <dc:creator>Ian Hemming</dc:creator>
  <dc:description/>
  <dc:language>en-US</dc:language>
  <cp:lastModifiedBy>Ian Hemming</cp:lastModifiedBy>
  <dcterms:modified xsi:type="dcterms:W3CDTF">2007-01-24T22:34:10Z</dcterms:modified>
  <cp:revision>2</cp:revision>
  <dc:subject/>
  <dc:title>Slide 1</dc:title>
</cp:coreProperties>
</file>